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B91-386D-4E0E-AD1F-29CD2AE1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116-F038-4047-B9E3-B43E7B8A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8613-A2AC-43D5-BF6A-ED0A84FB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589-D052-45BA-8383-435CCA4A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4915-AA8E-4F53-8C82-47BEB244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5660-24A9-481C-ABF4-26B3CCC2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7D40-F6E7-41A3-A30A-E56F5A4A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A9DD-D542-427E-9DAB-7C05EA0F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016D-F773-4C40-8A69-429FB809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C45B-B91C-4CC1-961F-C94A9398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C72E-F838-46EA-8FBF-EE9B26E6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E92-AC31-419A-AF7D-E6F7BE69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B5E4-090D-46AC-B092-32CE1C76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20C8-BA29-4B48-9135-25EF0420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976B-8FF3-4F90-9340-267C5061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BFBD-4405-4776-8669-5A06D5AD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96AE-F896-4AAC-8344-60A3E86D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C6592-D6A7-4367-B5A6-0E41DC7D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EE4CD-820F-49FE-94D4-8EF7302A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B1E1-9DF1-46ED-B66C-F4EABEC5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39F6F-C337-4DC7-B088-BF34E397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105C0-9ABF-4456-A721-C48AFCD6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A09-1F45-454E-A8F7-824EE34B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F33EF-DA0D-485C-B894-21EF435E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8278C-1A33-495B-AFB6-A649B841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36C60-D7CC-4AF7-B541-01D22FDB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DA688-1CA3-448C-905D-9A2F9A78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36DCB-6535-4548-B16E-5882773A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B0686-4D44-4A9C-9451-966404FB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0166D-F490-497A-9A87-DA9DA75E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195-5747-4150-94B1-901E78EA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A4F4-CB8B-4690-A5FB-CC4F6F64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67E-0330-4035-AA36-328DD096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AC6-CEB8-4EB2-92EE-DAFE349C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470-458A-4525-926B-6C7C5E62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302-1063-4075-B861-020EE865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6482-2162-40D4-98E9-672BF854DD4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D2C1-9435-46C1-A505-6EA438F7DF6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7130-B2B6-46B0-A5F0-8899BF54A75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18B6-04DD-48EA-8FF5-E9D37EB5AF9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2A43-2AE2-420A-823E-822917BAD29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0306-8615-4B56-AA7B-DF7DE0C779B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artnership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457200" y="1523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siness in which two or more persons combine their skills and assets and are the ow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member of the partnership is call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24764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mni Impo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457200" y="218124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rchandising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siness that purchases and sells go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l Merchandising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siness that purchases and sells goods to the final consu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lesale Merchandising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siness that buys and sells goods to retail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rchand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oods that are purchase by the business that will be s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23800" y="990720"/>
            <a:ext cx="81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Import is a Retail Merchandising Business that is organized as a partnership and purchases and sells novelty gift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PANDED JOURNA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1" name="Picture 3" descr="D:\C21 PowerPoint\Multi_Journal\art for blue\Ch10\Ch10-01a.jpg"/>
          <p:cNvPicPr/>
          <p:nvPr/>
        </p:nvPicPr>
        <p:blipFill>
          <a:blip r:embed="rId2"/>
          <a:srcRect l="0" t="0" r="0" b="25181"/>
          <a:stretch/>
        </p:blipFill>
        <p:spPr>
          <a:xfrm>
            <a:off x="228600" y="1143000"/>
            <a:ext cx="8647200" cy="2568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0-1, page 2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457200" y="41832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has many non-cash and other frequent transactions.  Therefore, they have added a number of special columns to help save time, space, and to create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04240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urchasing Merchandis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457200" y="1295280"/>
            <a:ext cx="7924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 of Merchand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mount of money that a business pays for its goods to s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mount added to the cost of merchandise that creates the selling pric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o make a profit, the selling price must be greater than its c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n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siness from which assets or other supplies for the business are purchas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457200" y="56386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urchases are a cost account and reduces capital which creates a normal debit bal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c7c9f"/>
                </a:solidFill>
                <a:latin typeface="News Gothic MT"/>
              </a:rPr>
              <a:t>PURCHASING MERCHANDISE FOR CASH</a:t>
            </a:r>
            <a:endParaRPr b="0" lang="en-US" sz="3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57200" y="792000"/>
            <a:ext cx="8001000" cy="703800"/>
          </a:xfrm>
          <a:prstGeom prst="rect">
            <a:avLst/>
          </a:prstGeom>
          <a:gradFill rotWithShape="0">
            <a:gsLst>
              <a:gs pos="0">
                <a:srgbClr val="7030a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1. Purchased merchandise for cash, $575.00 Check No. 2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52280" y="1752480"/>
            <a:ext cx="4343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counts are aff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152280" y="5373720"/>
            <a:ext cx="6553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mount entered in the accou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s increase on the deb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decrease on the cred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52280" y="422928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classification chang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s are in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decrea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52280" y="2876400"/>
            <a:ext cx="5257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ccount classifi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cos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26"/>
          <p:cNvGrpSpPr/>
          <p:nvPr/>
        </p:nvGrpSpPr>
        <p:grpSpPr>
          <a:xfrm>
            <a:off x="5638680" y="1523880"/>
            <a:ext cx="2971800" cy="3881520"/>
            <a:chOff x="5638680" y="1523880"/>
            <a:chExt cx="2971800" cy="3881520"/>
          </a:xfrm>
        </p:grpSpPr>
        <p:grpSp>
          <p:nvGrpSpPr>
            <p:cNvPr id="144" name="Group 25"/>
            <p:cNvGrpSpPr/>
            <p:nvPr/>
          </p:nvGrpSpPr>
          <p:grpSpPr>
            <a:xfrm>
              <a:off x="5638680" y="3581280"/>
              <a:ext cx="2971800" cy="1824120"/>
              <a:chOff x="5638680" y="3581280"/>
              <a:chExt cx="2971800" cy="182412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6708240" y="35812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1"/>
              <p:cNvSpPr/>
              <p:nvPr/>
            </p:nvSpPr>
            <p:spPr>
              <a:xfrm>
                <a:off x="5638680" y="3962520"/>
                <a:ext cx="2971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2"/>
              <p:cNvSpPr/>
              <p:nvPr/>
            </p:nvSpPr>
            <p:spPr>
              <a:xfrm>
                <a:off x="7086600" y="396252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24"/>
            <p:cNvGrpSpPr/>
            <p:nvPr/>
          </p:nvGrpSpPr>
          <p:grpSpPr>
            <a:xfrm>
              <a:off x="5638680" y="1523880"/>
              <a:ext cx="2971800" cy="1828800"/>
              <a:chOff x="5638680" y="1523880"/>
              <a:chExt cx="2971800" cy="1828800"/>
            </a:xfrm>
          </p:grpSpPr>
          <p:sp>
            <p:nvSpPr>
              <p:cNvPr id="149" name="Text Box 14"/>
              <p:cNvSpPr/>
              <p:nvPr/>
            </p:nvSpPr>
            <p:spPr>
              <a:xfrm>
                <a:off x="6435000" y="1523880"/>
                <a:ext cx="125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urchas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15"/>
              <p:cNvSpPr/>
              <p:nvPr/>
            </p:nvSpPr>
            <p:spPr>
              <a:xfrm>
                <a:off x="5638680" y="1905120"/>
                <a:ext cx="2971800" cy="4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16"/>
              <p:cNvSpPr/>
              <p:nvPr/>
            </p:nvSpPr>
            <p:spPr>
              <a:xfrm>
                <a:off x="7086600" y="190980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Text Box 17"/>
          <p:cNvSpPr/>
          <p:nvPr/>
        </p:nvSpPr>
        <p:spPr>
          <a:xfrm>
            <a:off x="5563080" y="205740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5561640" y="407844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6036480" y="284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5819040" y="2590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5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1"/>
          <p:cNvSpPr/>
          <p:nvPr/>
        </p:nvSpPr>
        <p:spPr>
          <a:xfrm flipV="1">
            <a:off x="7679520" y="487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2"/>
          <p:cNvSpPr/>
          <p:nvPr/>
        </p:nvSpPr>
        <p:spPr>
          <a:xfrm>
            <a:off x="7495560" y="4626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5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0-1, page 2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8"/>
          <p:cNvGrpSpPr/>
          <p:nvPr/>
        </p:nvGrpSpPr>
        <p:grpSpPr>
          <a:xfrm>
            <a:off x="457200" y="1143000"/>
            <a:ext cx="8053560" cy="1417680"/>
            <a:chOff x="457200" y="1143000"/>
            <a:chExt cx="8053560" cy="1417680"/>
          </a:xfrm>
        </p:grpSpPr>
        <p:pic>
          <p:nvPicPr>
            <p:cNvPr id="160" name="Picture 3" descr="D:\C21 PowerPoint\Multi_Journal\art for blue\Ch10\Ch10-01b.jpg"/>
            <p:cNvPicPr/>
            <p:nvPr/>
          </p:nvPicPr>
          <p:blipFill>
            <a:blip r:embed="rId2"/>
            <a:stretch/>
          </p:blipFill>
          <p:spPr>
            <a:xfrm>
              <a:off x="457200" y="1143000"/>
              <a:ext cx="805356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6"/>
            <p:cNvSpPr/>
            <p:nvPr/>
          </p:nvSpPr>
          <p:spPr>
            <a:xfrm>
              <a:off x="1214280" y="1905120"/>
              <a:ext cx="4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5edf4"/>
                  </a:solidFill>
                  <a:latin typeface="Wingdings"/>
                  <a:ea typeface="Wingdings"/>
                </a:rPr>
                <a:t>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7"/>
            <p:cNvSpPr/>
            <p:nvPr/>
          </p:nvSpPr>
          <p:spPr>
            <a:xfrm>
              <a:off x="4795560" y="1905120"/>
              <a:ext cx="4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5edf4"/>
                  </a:solidFill>
                  <a:latin typeface="Wingdings"/>
                  <a:ea typeface="Wingdings"/>
                </a:rPr>
                <a:t>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12"/>
          <p:cNvSpPr/>
          <p:nvPr/>
        </p:nvSpPr>
        <p:spPr>
          <a:xfrm>
            <a:off x="209520" y="3718080"/>
            <a:ext cx="779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 a check mark in the Account Title column to show that no account title is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04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c7c9f"/>
                </a:solidFill>
                <a:latin typeface="News Gothic MT"/>
              </a:rPr>
              <a:t>PURCHASING MERCHANDISE FOR CASH</a:t>
            </a:r>
            <a:endParaRPr b="0" lang="en-US" sz="3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6324480" y="22096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5"/>
          <p:cNvSpPr/>
          <p:nvPr/>
        </p:nvSpPr>
        <p:spPr>
          <a:xfrm>
            <a:off x="228600" y="15238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6"/>
          <p:cNvSpPr/>
          <p:nvPr/>
        </p:nvSpPr>
        <p:spPr>
          <a:xfrm>
            <a:off x="3809880" y="16765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5105520" y="22096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1676520" y="21337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09520" y="437832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heck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20952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09520" y="474192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 a check mark in the Post. Ref. column to show that amounts are not to be posted individu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210960" y="540864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Write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210960" y="577368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Write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5"/>
          <p:cNvSpPr/>
          <p:nvPr/>
        </p:nvSpPr>
        <p:spPr>
          <a:xfrm>
            <a:off x="8229600" y="16002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10-1, page 2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8:32:51Z</dcterms:created>
  <dc:creator>Mary Colleen McLaughlin</dc:creator>
  <dc:description/>
  <dc:language>en-US</dc:language>
  <cp:lastModifiedBy>David Combs</cp:lastModifiedBy>
  <cp:lastPrinted>1999-04-07T04:49:18Z</cp:lastPrinted>
  <dcterms:modified xsi:type="dcterms:W3CDTF">2013-01-04T17:36:49Z</dcterms:modified>
  <cp:revision>18</cp:revision>
  <dc:subject/>
  <dc:title>ADJUSTING ENTRY FOR SUPPLIES</dc:title>
</cp:coreProperties>
</file>